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E8A8-C666-4CB3-B3EF-D3DEC7B93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366B-07F9-44A1-8819-4EB95F7D3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5E79-F8A5-44B6-9E79-52F779484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DF39-9E4C-49E2-8E81-F971DF601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EE35-04E3-4D1B-AA8E-7781650E2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B548-8A04-46C1-88FD-CC51F5707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A91-6396-4378-BCF3-D3C827AAF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08D4-ECCD-49D4-ADBA-C7FCB1BDA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C78D-FA3E-4686-A9D4-DE5787667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CCA4-CCB9-4701-BB99-7EF6A22D1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C565-C9B1-428E-9DFD-01866384A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AD9D-F4C3-4B89-B505-2E069B52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10FA-DC1B-49D1-AFB5-0727B83171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74F-54AF-45FD-A354-E423F4D955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1F3-5B39-44C9-9046-D86F9B1DD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7F7-B223-4FAA-8DBD-3B9A13202B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9CE3-FF5E-4A9C-B776-2D4EFA4017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9DCF-DC35-491E-ABFB-CDF7269D8E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tudent’s revised success criter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092-3D85-4229-9C6F-0C81C612CD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228-10C6-459D-91C6-DE739B5E13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B1C-1E75-46D1-A11B-9C7447DB9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C14-F776-47F0-A389-D01EA0B84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A73-D7CE-40D5-8963-C24E375187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7B1D-3E28-45E8-9411-7DA5C4C177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…Responding to Students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A37B-A3E6-4EA7-8C00-0D5B80AD4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3352680" y="2633760"/>
            <a:ext cx="296892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DD9-6C4D-4BA9-BE7A-2669AE688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AutoShape 7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E0DB-C332-4B34-9F90-523FEA712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FDC-4EC1-477E-9AD3-838530BAD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orting Activity: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necting Mathematical Processes with the Achievement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67D9-C9FD-4244-B54C-205486A36E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4187880" cy="34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835-7EE4-4DAB-A44B-278D24F4DD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891-05BA-4EA1-BAE2-4681E0DC86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859-1B4F-4623-8FAB-B1960F7EB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873-74DE-4CAE-95F6-83710BF0A6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6D40-38E2-4D6D-9D09-CA2F5E0BBF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36:18Z</dcterms:modified>
  <cp:revision>76</cp:revision>
  <dc:subject/>
  <dc:title>&lt;Title&gt;</dc:title>
</cp:coreProperties>
</file>